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C4CA-CFC3-4FEF-B5A3-BD309E0A31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0139-3AB5-4DDA-991D-4EFD766ADC5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89E-006E-494C-8293-E1AD763C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0A08-C291-4551-9DC6-0FE561EB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38B2-46EF-443D-8709-8D89295A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9DB-BB35-4FB8-83A6-7E64255F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98F-90BA-4104-AC4B-A6E71CBC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87E-0DCF-4F63-9DBE-7477F82F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654-060D-4336-9E48-599CA28D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F56-B190-4ECB-BCDB-13C940E5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0D38-FC0D-4F2F-A4B7-CDBFAA2B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2F5-0254-4AA9-9490-6FD8835B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7E4-281E-4ECC-9505-16126591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A18-513B-4821-A51C-C26EC4B7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FB7E-B54D-4FCF-B6A2-86FE600EC5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7920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333300"/>
                </a:solidFill>
                <a:latin typeface="Lucida Handwriting"/>
              </a:rPr>
              <a:t> </a:t>
            </a: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Роль мониторинговых обследований по иностранному языку в повышении образовательных результатов обучающихся</a:t>
            </a:r>
            <a:br>
              <a:rPr sz="2800"/>
            </a:br>
            <a:br>
              <a:rPr sz="2800"/>
            </a:br>
            <a:br>
              <a:rPr sz="40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Краевая научно-практическая конференция работников </a:t>
            </a:r>
            <a:br>
              <a:rPr sz="1600"/>
            </a:br>
            <a:r>
              <a:rPr b="0" lang="ru-RU" sz="1600" spc="-1" strike="noStrike">
                <a:solidFill>
                  <a:srgbClr val="374c81"/>
                </a:solidFill>
                <a:latin typeface="Century Gothic"/>
              </a:rPr>
              <a:t>системы общего образования Пермского края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 «Использование результатов независимых оценок подготовки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обучающихся в повышении качества образования 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и совершенствовании основных образовательных программ»</a:t>
            </a:r>
            <a:br>
              <a:rPr sz="1600"/>
            </a:br>
            <a:r>
              <a:rPr b="0" i="1" lang="ru-RU" sz="1600" spc="-1" strike="noStrike">
                <a:solidFill>
                  <a:srgbClr val="374c81"/>
                </a:solidFill>
                <a:latin typeface="Century Gothic"/>
              </a:rPr>
              <a:t>07.02.2019</a:t>
            </a:r>
            <a:br>
              <a:rPr sz="1600"/>
            </a:b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Тихомирова О.А.,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 старший научный сотрудник </a:t>
            </a:r>
            <a:br>
              <a:rPr sz="1200"/>
            </a:br>
            <a:r>
              <a:rPr b="0" lang="ru-RU" sz="1200" spc="-1" strike="noStrike">
                <a:solidFill>
                  <a:srgbClr val="374c81"/>
                </a:solidFill>
                <a:latin typeface="Century Gothic"/>
              </a:rPr>
              <a:t>отдела сопровождения ФГОС ГАУ ДПО ИРО П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Пермский край. Распределение первичных баллов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 ВПР 11 класс. Максимальный балл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179280" y="1197000"/>
            <a:ext cx="8713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Статистика по отметкам в сравнении 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50840" y="1849320"/>
          <a:ext cx="7042320" cy="4027680"/>
        </p:xfrm>
        <a:graphic>
          <a:graphicData uri="http://schemas.openxmlformats.org/drawingml/2006/table">
            <a:tbl>
              <a:tblPr/>
              <a:tblGrid>
                <a:gridCol w="289080"/>
                <a:gridCol w="2997000"/>
                <a:gridCol w="433440"/>
                <a:gridCol w="289080"/>
                <a:gridCol w="288720"/>
                <a:gridCol w="290520"/>
                <a:gridCol w="289080"/>
                <a:gridCol w="2165400"/>
              </a:tblGrid>
              <a:tr h="382680">
                <a:tc gridSpan="2"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и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-во уч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ределение групп баллов в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gridSpan="7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998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gridSpan="2"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я выбор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4680">
                        <a:lnSpc>
                          <a:spcPts val="899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 rowSpan="2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273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м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>
                        <a:lnSpc>
                          <a:spcPts val="1185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0" bIns="0" anchor="ctr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360" rIns="9360" tIns="0" bIns="0" anchor="t">
                      <a:noAutofit/>
                    </a:bodyPr>
                    <a:p>
                      <a:pPr marL="9360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600">
                <a:tc gridSpan="8">
                  <a:txBody>
                    <a:bodyPr lIns="9360" rIns="9360" tIns="0" bIns="0" anchor="t">
                      <a:noAutofit/>
                    </a:bodyPr>
                    <a:p>
                      <a:pPr marL="9360" algn="ctr">
                        <a:lnSpc>
                          <a:spcPts val="1086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гистограмма отмет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6600">
                <a:tc gridSpan="8">
                  <a:txBody>
                    <a:bodyPr lIns="9360" rIns="93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08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Гистограмма соответствия отметок за выполненную работу и отметок по журн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Модели использования результатов мониторинговых обследован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 региональном и муниципальном уровне – для разработки методических рекомендаций по совершенствованию преподавания учебных предметов, для совершенствования программ повышения квалификации уч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ыми организациями – для совершенствования преподавания учебных предметов на основе методических рекомендаций, для повышения квалификации учителей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ринятия решений в отношении конкретных учащихся (например: диагностика проблем в обучении , корректировка образовательного процес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дителями и детьми – для повышения информированности, принятия обоснованных решений о выборе образовательной траектори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Выявление необъективности результатов В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 2018 выявлено свыше 3 тысяч школ с необъективными результат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Почти 850 образовательных организаций показывают необъективные результаты ВПР на протяжении двух лет – в 2017 и в 2018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тмечены образовательные организации, в которых результат выполнения ВПР оказался заметно выше среднего результата по региону. При этом школа не является лицеем или гимназией с углубленным изучением данных предметов, и полученные результаты не подтверждаются высокими баллами ЕГЭ у выпускников. Также анализировались средние проценты выполнения каждого задания учащимися: если в школе простые задания делают хуже, чем в среднем по региону, а сложные лучше, то это может свидетельствовать, что школьникам помогали справиться с более сложными зад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4005360"/>
            <a:ext cx="609156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Century Gothic"/>
              </a:rPr>
              <a:t>Сергей Кравцов-руководитель Рособр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4508280"/>
            <a:ext cx="7920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«Объективность результатов крайне важна во всех оценочных процедурах в системе образования. Это необходимо не для того, чтобы наказать директоров школ и учителей, если учащиеся показали слабые результаты. Это нужно, чтобы оказать таким школам </a:t>
            </a:r>
            <a:r>
              <a:rPr b="1" lang="ru-RU" sz="1400" spc="-1" strike="noStrike">
                <a:solidFill>
                  <a:srgbClr val="374c81"/>
                </a:solidFill>
                <a:latin typeface="Century Gothic"/>
              </a:rPr>
              <a:t>методическую поддержку и повысить качество образования</a:t>
            </a:r>
            <a:r>
              <a:rPr b="0" lang="ru-RU" sz="1400" spc="-1" strike="noStrike">
                <a:solidFill>
                  <a:srgbClr val="374c81"/>
                </a:solidFill>
                <a:latin typeface="Century Gothic"/>
              </a:rPr>
              <a:t>. Мы очень рассчитываем, что опыт этого года будет учтен школами и регионами в следующем учебном году, и по итогам проведения ВПР мы увидим более объективную картину без попыток искусственно завысить результат» 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D:\РабочийСтол\3_f5ee4dff.jpg"/>
          <p:cNvPicPr/>
          <p:nvPr/>
        </p:nvPicPr>
        <p:blipFill>
          <a:blip r:embed="rId1"/>
          <a:srcRect l="5533" t="0" r="5533" b="0"/>
          <a:stretch/>
        </p:blipFill>
        <p:spPr>
          <a:xfrm>
            <a:off x="1979640" y="404640"/>
            <a:ext cx="4896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Закон РФ «Об образовании»  ст. 97 п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0" i="1" lang="ru-RU" sz="2400" spc="-1" strike="noStrike" u="sng">
                <a:solidFill>
                  <a:srgbClr val="374c81"/>
                </a:solidFill>
                <a:uFillTx/>
                <a:latin typeface="Century Gothic"/>
              </a:rPr>
              <a:t>Мониторинг системы образования </a:t>
            </a:r>
            <a:r>
              <a:rPr b="0" lang="ru-RU" sz="2400" spc="-1" strike="noStrike">
                <a:solidFill>
                  <a:srgbClr val="374c81"/>
                </a:solidFill>
                <a:latin typeface="Century Gothic"/>
              </a:rPr>
              <a:t>представляет собой систематическое стандартизированное наблюдение за состоянием образования и динамикой изменений его результатов, условиями осуществления образовательной деятельности, контингентом обучающихся, учебными и внеучебными достижениями обучающихся, профессиональными достижениями выпускников организаций, осуществляющих образовательную деятельность, состоянием сети организаций, осуществляющих образователь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5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Выделение предмета «Иностранный язык» в отдельную образовательную область ( ПР. МО РФ № 1576,1577,1578 от 31.12.2015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6 год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Приказ Минобрнауки РФ от 15.12. 2016 г.№ 1598 «Об утверждении комплекса мер, направленных на систематическое обновление содержания общего образования на 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основе результатов  мониторинговых исследований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и с учетом современных достижений науки и технологий, изменений запросов учащихся и общества, ориентированности  на применении знаний, умений и навыков  в реальных жизненных услов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7 год</a:t>
            </a:r>
            <a:r>
              <a:rPr b="0" lang="ru-RU" sz="2000" spc="-1" strike="noStrike">
                <a:solidFill>
                  <a:srgbClr val="ff0000"/>
                </a:solidFill>
                <a:latin typeface="Century Gothic"/>
              </a:rPr>
              <a:t>. 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Выход в свет и  общественное обсуждение научно-обоснованной концепция модернизации содержания и технологий преподавания предметной области «Иностранные языки».  Учебные предметы «Иностранный язык» и «Второй иностранный язы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бновление нормативно- правовой б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-2019 гг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. Обновление требований к предметным результатам обучения иностранному языку по годам обучения на уровнях начального и основного общего образования (обсужд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8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Выход в свет нового Федерального перечня учебников (Приказ Министерства Просвещения РФ № 345 от 28.12.2018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2019 г.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Разработка КИМ ОГЭ по иностранным языкам в соответствии с требованиями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4c8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Реализация требований ФГОС ООО в части введения </a:t>
            </a:r>
            <a:r>
              <a:rPr b="0" i="1" lang="ru-RU" sz="2000" spc="-1" strike="noStrike" u="sng">
                <a:solidFill>
                  <a:srgbClr val="374c81"/>
                </a:solidFill>
                <a:uFillTx/>
                <a:latin typeface="Century Gothic"/>
              </a:rPr>
              <a:t>второго иностранного языка в </a:t>
            </a:r>
            <a:r>
              <a:rPr b="0" i="1" lang="ru-RU" sz="2000" spc="-1" strike="noStrike">
                <a:solidFill>
                  <a:srgbClr val="374c81"/>
                </a:solidFill>
                <a:latin typeface="Century Gothic"/>
              </a:rPr>
              <a:t>образовательную программу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Цель проведения Всероссийских проверочных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267920"/>
            <a:ext cx="8362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беспечение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а образовательного пространства 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Российской Федерации и поддержки введения ФГОС за счет предоставления образовательным организациям единых проверочных материалов и единых критериев оценивания учебных достижений школь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Особенность Всероссийских проверочных работ – </a:t>
            </a:r>
            <a:r>
              <a:rPr b="1" lang="ru-RU" sz="2000" spc="-1" strike="noStrike">
                <a:solidFill>
                  <a:srgbClr val="374c81"/>
                </a:solidFill>
                <a:latin typeface="Century Gothic"/>
              </a:rPr>
              <a:t>единство подходов к составлению вариантов, проведению самих работ и их оцениванию</a:t>
            </a: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, а также использование современных технологий, позволяющих обеспечить практически одновременное выполнение работ школьниками всей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Кроме того, ВПР позволят осуществлять мониторинг результатов введения ФГОС и послужат развитию единого образовательного пространства в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Назначение ВПР – оценить уровень общеобразовательной подготовки учащихся в соответствии с требованиями ФГ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Иностранный язык введен в перечень обязательных предметов ЕГЭ (2022 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ПР —  первый этап на пути к введению обязательного ЕГЭ по иностранному языку. Проверочная работа не только выявляет уровень знаний учеников, изучающих иностранный язык, но и дает возможность школе заранее подготовиться к проведению государственного экзамен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Структура ВПР(20.03.2018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и устная ч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в компьютеризированно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фор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бразовательное учреждение в 2018 г.   имеет право выбора – выполнять 2 части работы или только письмен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Письменная часть – 60 мин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Устная часть – 15 минут на одного отвечаю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Century Gothic"/>
              </a:rPr>
              <a:t>Оптимизация подготовки к ВПР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знакомление с форматом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Овладение стратегиями разного род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 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аудирования и чт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Выполнение продуктивных 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Совершенствование лексико –    грамматических навыков в коммуникативно-значимом контек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c81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4c81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Century Gothic"/>
              </a:rPr>
              <a:t>Результаты ВПР- 2018 по английскому языку в 11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Результаты ВПР показали готовность школ к введению обязательного ЕГЭ по иностранному язы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Century Gothic"/>
              </a:rPr>
              <a:t>Необходимо начать работу по организационно технологическому обеспечению проведения обязательного ЕГЭ по иностранным языкам в компьютер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РабочийСтол\Screenshot_9.png"/>
          <p:cNvPicPr/>
          <p:nvPr/>
        </p:nvPicPr>
        <p:blipFill>
          <a:blip r:embed="rId1"/>
          <a:stretch/>
        </p:blipFill>
        <p:spPr>
          <a:xfrm>
            <a:off x="539640" y="1052640"/>
            <a:ext cx="8244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1</cp:lastModifiedBy>
  <dcterms:modified xsi:type="dcterms:W3CDTF">2019-02-08T16:45:55Z</dcterms:modified>
  <cp:revision>602</cp:revision>
  <dc:subject/>
  <dc:title>Diapositiva 1</dc:title>
</cp:coreProperties>
</file>